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C983F-BB0C-4346-9985-50D9D299B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7DB33-F581-44D3-949D-8F7C27511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008B1-EEEA-4E83-BEAD-FF55668DD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E9978-62A6-4D01-B181-69F052592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64219-E74E-4A95-96A9-8C0FFD756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C122B-0E92-49AC-912B-A01C1D50F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96D89-2926-4DFC-B22F-42ACDB73D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74E9E-5196-44FE-8FE9-08BE1486D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345FC-3F48-4AA1-9EAC-DDB19CE6C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7A886-0DB0-49F7-8AB3-7B29C05A6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36103-51F1-4C14-83DC-5A1F922CE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FC61B-384D-419E-9F77-CC884F30F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38EA-251B-43EF-9F1C-FD73A6D9BB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4C – Statistic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Distribution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Data Inves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mping the Teache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teachers took a plane trip to a national convention.  While on the plane they were discussing their salaries and noted that most of them made similar sal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 made $40 000 and ten made $45 0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ade the average salary $42 5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ssenger joined the flight because his private jet had engine trouble.  Word soon spread throughout the plane that this passenger was Donald Trum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old teacher asked “The Donald” to compare his annual salary to thei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Trump replied that his estimated yearly income was about $10 000 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the Math?</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ed to the average of the salaries now that Trump joined th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71" name="PlaceHolder 2"/>
          <p:cNvSpPr>
            <a:spLocks noGrp="1"/>
          </p:cNvSpPr>
          <p:nvPr>
            <p:ph/>
          </p:nvPr>
        </p:nvSpPr>
        <p:spPr>
          <a:xfrm>
            <a:off x="20016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see how much difference one score can mak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ther the teachers salaries nor Trump’s salary was anywhere near the aver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is to when a students earns a bad test sco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ll this result an outlier and it skews the data.</a:t>
            </a:r>
            <a:endParaRPr b="0" lang="en-US" sz="24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4334040" y="1676520"/>
                <a:ext cx="4657680" cy="21571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sSub>
                                  <m:e>
                                    <m:r>
                                      <m:t xml:space="preserve">f</m:t>
                                    </m:r>
                                  </m:e>
                                  <m:sub>
                                    <m:r>
                                      <m:t xml:space="preserve">i</m:t>
                                    </m:r>
                                  </m:sub>
                                </m:sSub>
                                <m:r>
                                  <m:t xml:space="preserve">⋅</m:t>
                                </m:r>
                                <m:sSub>
                                  <m:e>
                                    <m:r>
                                      <m:t xml:space="preserve">x</m:t>
                                    </m:r>
                                  </m:e>
                                  <m:sub>
                                    <m:r>
                                      <m:t xml:space="preserve">i</m:t>
                                    </m:r>
                                  </m:sub>
                                </m:sSub>
                              </m:e>
                            </m:nary>
                          </m:num>
                          <m:den>
                            <m:nary>
                              <m:naryPr>
                                <m:chr m:val="∑"/>
                                <m:subHide m:val="1"/>
                                <m:supHide m:val="1"/>
                              </m:naryPr>
                              <m:sub/>
                              <m:sup/>
                              <m:e>
                                <m:sSub>
                                  <m:e>
                                    <m:r>
                                      <m:t xml:space="preserve">f</m:t>
                                    </m:r>
                                  </m:e>
                                  <m:sub>
                                    <m:r>
                                      <m:t xml:space="preserve">i</m:t>
                                    </m:r>
                                  </m:sub>
                                </m:sSub>
                              </m:e>
                            </m:nary>
                          </m:den>
                        </m:f>
                      </m:e>
                      <m:e>
                        <m:f>
                          <m:num>
                            <m:r>
                              <m:rPr>
                                <m:lit/>
                                <m:nor/>
                              </m:rPr>
                              <m:t xml:space="preserve">10</m:t>
                            </m:r>
                            <m:d>
                              <m:dPr>
                                <m:begChr m:val="("/>
                                <m:endChr m:val=")"/>
                              </m:dPr>
                              <m:e>
                                <m:r>
                                  <m:rPr>
                                    <m:lit/>
                                    <m:nor/>
                                  </m:rPr>
                                  <m:t xml:space="preserve">40000</m:t>
                                </m:r>
                              </m:e>
                            </m:d>
                            <m:r>
                              <m:t xml:space="preserve">+</m:t>
                            </m:r>
                            <m:r>
                              <m:rPr>
                                <m:lit/>
                                <m:nor/>
                              </m:rPr>
                              <m:t xml:space="preserve">10</m:t>
                            </m:r>
                            <m:d>
                              <m:dPr>
                                <m:begChr m:val="("/>
                                <m:endChr m:val=")"/>
                              </m:dPr>
                              <m:e>
                                <m:r>
                                  <m:rPr>
                                    <m:lit/>
                                    <m:nor/>
                                  </m:rPr>
                                  <m:t xml:space="preserve">45000</m:t>
                                </m:r>
                              </m:e>
                            </m:d>
                            <m:r>
                              <m:t xml:space="preserve">+</m:t>
                            </m:r>
                            <m:r>
                              <m:t xml:space="preserve">1</m:t>
                            </m:r>
                            <m:d>
                              <m:dPr>
                                <m:begChr m:val="("/>
                                <m:endChr m:val=")"/>
                              </m:dPr>
                              <m:e>
                                <m:r>
                                  <m:rPr>
                                    <m:lit/>
                                    <m:nor/>
                                  </m:rPr>
                                  <m:t xml:space="preserve">10000000</m:t>
                                </m:r>
                              </m:e>
                            </m:d>
                          </m:num>
                          <m:den>
                            <m:r>
                              <m:rPr>
                                <m:lit/>
                                <m:nor/>
                              </m:rPr>
                              <m:t xml:space="preserve">21</m:t>
                            </m:r>
                          </m:den>
                        </m:f>
                      </m:e>
                      <m:e>
                        <m:r>
                          <m:t xml:space="preserve">$</m:t>
                        </m:r>
                        <m:r>
                          <m:rPr>
                            <m:lit/>
                            <m:nor/>
                          </m:rPr>
                          <m:t xml:space="preserve">516</m:t>
                        </m:r>
                        <m:r>
                          <m:t xml:space="preserve"> </m:t>
                        </m:r>
                        <m:r>
                          <m:rPr>
                            <m:lit/>
                            <m:nor/>
                          </m:rPr>
                          <m:t xml:space="preserve">666</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in set A approximates a normal distrib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normal distrib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istribution is often referred to as a “bell curve” because of its shap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 descr=""/>
          <p:cNvPicPr/>
          <p:nvPr/>
        </p:nvPicPr>
        <p:blipFill>
          <a:blip r:embed="rId1"/>
          <a:stretch/>
        </p:blipFill>
        <p:spPr>
          <a:xfrm>
            <a:off x="4738680" y="2428920"/>
            <a:ext cx="3857760" cy="28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 median and the mode are all equal in a normal distribution and are located at the center of the distrib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rmal distribution is symmetrical around the mean.</a:t>
            </a:r>
            <a:endParaRPr b="0" lang="en-US" sz="2800" spc="-1" strike="noStrike">
              <a:solidFill>
                <a:srgbClr val="000000"/>
              </a:solidFill>
              <a:latin typeface="Arial"/>
            </a:endParaRPr>
          </a:p>
        </p:txBody>
      </p:sp>
      <p:pic>
        <p:nvPicPr>
          <p:cNvPr id="48" name="" descr=""/>
          <p:cNvPicPr/>
          <p:nvPr/>
        </p:nvPicPr>
        <p:blipFill>
          <a:blip r:embed="rId1"/>
          <a:stretch/>
        </p:blipFill>
        <p:spPr>
          <a:xfrm>
            <a:off x="4738680" y="2428920"/>
            <a:ext cx="385776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B</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in set B follows a bimodal distribution.  This distribution has two high peaks and, if the peaks are of equal height, they represent the two modes.</a:t>
            </a:r>
            <a:endParaRPr b="0" lang="en-US" sz="2800" spc="-1" strike="noStrike">
              <a:solidFill>
                <a:srgbClr val="000000"/>
              </a:solidFill>
              <a:latin typeface="Arial"/>
            </a:endParaRPr>
          </a:p>
        </p:txBody>
      </p:sp>
      <p:pic>
        <p:nvPicPr>
          <p:cNvPr id="51"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B</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 and median are not necessarily equal and are located between the two pea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modal distribution often indicates there are two subgroups in the data, which should be examined independently.</a:t>
            </a:r>
            <a:endParaRPr b="0" lang="en-US" sz="2800" spc="-1" strike="noStrike">
              <a:solidFill>
                <a:srgbClr val="000000"/>
              </a:solidFill>
              <a:latin typeface="Arial"/>
            </a:endParaRPr>
          </a:p>
        </p:txBody>
      </p:sp>
      <p:pic>
        <p:nvPicPr>
          <p:cNvPr id="54" name="" descr=""/>
          <p:cNvPicPr/>
          <p:nvPr/>
        </p:nvPicPr>
        <p:blipFill>
          <a:blip r:embed="rId1"/>
          <a:stretch/>
        </p:blipFill>
        <p:spPr>
          <a:xfrm>
            <a:off x="4724280" y="1295280"/>
            <a:ext cx="4038840" cy="2667240"/>
          </a:xfrm>
          <a:prstGeom prst="rect">
            <a:avLst/>
          </a:prstGeom>
          <a:ln w="0">
            <a:noFill/>
          </a:ln>
        </p:spPr>
      </p:pic>
      <p:sp>
        <p:nvSpPr>
          <p:cNvPr id="55" name=""/>
          <p:cNvSpPr/>
          <p:nvPr/>
        </p:nvSpPr>
        <p:spPr>
          <a:xfrm>
            <a:off x="4700520" y="3832200"/>
            <a:ext cx="41911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investigation, the data on masses of adult men should be considered separately from the data of adult wo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C &amp; 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tributions of data sets C and D are both skew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kewed distribution is not symmetrical.  The data tends to be clustered at one 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C</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tribution of the data in set C is an example of a distribution that is skewed left also referred to as a negative sk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peak of the distribution is on the right hand side of the data, it is skewed left because there is a long tail to the lef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distribution that is skewed left, the mode is located at the peak, the median is less than the mode, and the mean is less than the medi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 is affected by the extreme values in the tail. (ie: possible outl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tribution of the data in set D is an example of a distribution that is skewed right also referred to as a positvie sk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peak of the distribution is on the left hand side of the data, it is skewed right because there is a long tail to the righ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distribution that is skewed right, the mode is located at the peak, the median is greater than the mode, and the mean is greater than the medi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 is affected by the extreme values in the tail. (ie: possible outl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ade 12 student in MAP4C plans to collect data on the heights (in cm) of all the people in each of these groups at their school.  Predict the type of distribution that would be see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mbers of the senior girls basketball team.</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le students in grade 11.</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 students in the entire sch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16:35:22Z</dcterms:created>
  <dc:creator>Customer</dc:creator>
  <dc:description/>
  <dc:language>en-US</dc:language>
  <cp:lastModifiedBy>Customer</cp:lastModifiedBy>
  <dcterms:modified xsi:type="dcterms:W3CDTF">2010-03-25T16:56:52Z</dcterms:modified>
  <cp:revision>3</cp:revision>
  <dc:subject/>
  <dc:title>MAP4C – Statistics</dc:title>
</cp:coreProperties>
</file>